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758-D2F5-4BED-8D34-A1EE926E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CC3-0D99-44F7-AD2C-53C4137D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392-0CBE-412F-B48D-C51A5704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FA2-EB70-4481-9139-6C8E064F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7D2-C1FB-494F-AF90-5925456F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92D-871F-4F36-A29B-58B1D048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D08-555B-4C9C-8EA3-9E367737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3B5-47F4-4427-B05E-B26D42B1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C4A-776A-4E0C-BE2A-C7C25B34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1D3-2A73-4186-B8A8-449D89CD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FD4-25A6-4311-B9C7-9FF0852C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C58-9EAF-44F8-A3F5-E87ED8D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0CE-4373-485B-9148-5AE5916FD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657600" y="1295280"/>
          <a:ext cx="15238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95280"/>
                    <a:ext cx="1523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1:33:03Z</dcterms:created>
  <dc:creator>MainMachine</dc:creator>
  <dc:description/>
  <dc:language>en-US</dc:language>
  <cp:lastModifiedBy>MainMachine</cp:lastModifiedBy>
  <dcterms:modified xsi:type="dcterms:W3CDTF">2009-07-29T11:34:36Z</dcterms:modified>
  <cp:revision>3</cp:revision>
  <dc:subject/>
  <dc:title>Slide 1</dc:title>
</cp:coreProperties>
</file>